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5611-EDBD-4068-A204-C197C9C48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7854-DE19-42F6-A734-6341A9AF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8792-957F-4F34-AA7B-CB191D5BC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04C4-0463-41A8-AF58-C02D751EC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468F-F6BD-4D7E-B09A-277DBBED5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3C47-511D-492A-9064-DF35D785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36D5-8709-4A57-9B3D-025884EF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B2C8-D1B1-4A8C-8E62-9A3B3ECB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1625-F155-42F3-8A7C-E8CC5124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DFD4-0128-4001-AD22-5B258ED4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B5A8-E3B9-4561-8F47-E0AA2E7B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A80B-3EAF-4624-8196-8628D79F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50F2-1857-4ECB-80F1-BC7F4F32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E3EF-B93F-4428-9C72-6CB8BF05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064E-E21D-4859-816B-0AC50AE4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3E9D-FCBC-4912-8F8C-64ACBDB72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5C96-0DE7-4421-812A-EAE3ED1E6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41F5-401C-4616-A392-253B701D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983E-9A77-4972-92DD-88D235AC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D4BB-95EF-4705-AD80-6C47A0E6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9901-77F6-4B9C-979F-410F4D47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9158-6B2C-4B3A-9931-EF045630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F90C-8235-43BC-814B-144C0977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CD63-2F31-4367-9E68-D114CAFD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73AA-1559-48B5-94C4-9B7D4F9E3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4975-A6A2-4E9F-990E-446025D52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npr.org/news/specials/ruralchina/gallery/gallery.html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80520" y="1066320"/>
            <a:ext cx="4038840" cy="297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prstDash val="dashDot"/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: 1-19 &amp; 20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page 1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do most of China’s people live—in rural or urban are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the literacy rate of China?  (Compare to the United States literacy rate. Page 6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2" descr="BeijingBicycles"/>
          <p:cNvPicPr/>
          <p:nvPr/>
        </p:nvPicPr>
        <p:blipFill>
          <a:blip r:embed="rId1"/>
          <a:stretch/>
        </p:blipFill>
        <p:spPr>
          <a:xfrm>
            <a:off x="5016600" y="0"/>
            <a:ext cx="4127400" cy="49528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3"/>
          <p:cNvSpPr/>
          <p:nvPr/>
        </p:nvSpPr>
        <p:spPr>
          <a:xfrm>
            <a:off x="0" y="0"/>
            <a:ext cx="4876920" cy="862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enda 1-19 &amp; 20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Japan Map Quiz due next block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4" descr="chinaT1123003"/>
          <p:cNvPicPr/>
          <p:nvPr/>
        </p:nvPicPr>
        <p:blipFill>
          <a:blip r:embed="rId2"/>
          <a:stretch/>
        </p:blipFill>
        <p:spPr>
          <a:xfrm>
            <a:off x="533520" y="4114800"/>
            <a:ext cx="4114800" cy="27432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27"/>
          <p:cNvSpPr/>
          <p:nvPr/>
        </p:nvSpPr>
        <p:spPr>
          <a:xfrm>
            <a:off x="1981080" y="2286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ural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9"/>
          <p:cNvSpPr/>
          <p:nvPr/>
        </p:nvSpPr>
        <p:spPr>
          <a:xfrm>
            <a:off x="2514600" y="3429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hina--84% U.S.—9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0"/>
          <p:cNvSpPr/>
          <p:nvPr/>
        </p:nvSpPr>
        <p:spPr>
          <a:xfrm>
            <a:off x="5029200" y="5562720"/>
            <a:ext cx="3733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npr.org/news/specials/ruralchina/gallery/gallery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[]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ab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Broadway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Have</a:t>
            </a: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Broadway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Broadway"/>
              </a:rPr>
              <a:t>Dream</a:t>
            </a: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Assig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—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  Have A Drea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-at the t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Haik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line—5 syll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ine—7 syll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ine—5 syll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 and color 5 illustr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at least 2 phrases from MLK’s spe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4724280" y="2209680"/>
            <a:ext cx="4419720" cy="18918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dom for all m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ack and white all togeth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ream will not di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Arrow Connector 7"/>
          <p:cNvCxnSpPr/>
          <p:nvPr/>
        </p:nvCxnSpPr>
        <p:spPr>
          <a:xfrm>
            <a:off x="2971440" y="2286000"/>
            <a:ext cx="160092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2" name="TextBox 8"/>
          <p:cNvSpPr/>
          <p:nvPr/>
        </p:nvSpPr>
        <p:spPr>
          <a:xfrm>
            <a:off x="-685800" y="7621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9"/>
          <p:cNvSpPr/>
          <p:nvPr/>
        </p:nvSpPr>
        <p:spPr>
          <a:xfrm>
            <a:off x="228600" y="3809880"/>
            <a:ext cx="3581280" cy="9169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ic Ideas for Hai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rimination, freedom, MLK, equality, working together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ab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4"/>
          <p:cNvSpPr/>
          <p:nvPr/>
        </p:nvSpPr>
        <p:spPr>
          <a:xfrm>
            <a:off x="228600" y="457200"/>
            <a:ext cx="86104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 you turn in your test, do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or and complete “I have a Dream” poster.  If finished, turn into HR tray. This poster is due by next Fri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your Chinese Blessing you painted and attach your colored dragon pictur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f you want t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 I will be grading them so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you are finished with all of the above, you work on the Japan Map Quiz. It is found on the front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http://www.crystalinks.com/chinawallarge.gif"/>
          <p:cNvPicPr/>
          <p:nvPr/>
        </p:nvPicPr>
        <p:blipFill>
          <a:blip r:embed="rId1"/>
          <a:stretch/>
        </p:blipFill>
        <p:spPr>
          <a:xfrm>
            <a:off x="2362320" y="4038480"/>
            <a:ext cx="422568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[]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[]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[]"/>
          <p:cNvPicPr/>
          <p:nvPr/>
        </p:nvPicPr>
        <p:blipFill>
          <a:blip r:embed="rId1"/>
          <a:stretch/>
        </p:blipFill>
        <p:spPr>
          <a:xfrm>
            <a:off x="0" y="0"/>
            <a:ext cx="9144000" cy="69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[]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[]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[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[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[]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20:28:12Z</dcterms:created>
  <dc:creator>Selena Ramsey</dc:creator>
  <dc:description/>
  <dc:language>en-US</dc:language>
  <cp:lastModifiedBy>poweruser</cp:lastModifiedBy>
  <dcterms:modified xsi:type="dcterms:W3CDTF">2012-01-23T15:55:33Z</dcterms:modified>
  <cp:revision>1230</cp:revision>
  <dc:subject/>
  <dc:title>Agenda Jan. 6, 2006</dc:title>
</cp:coreProperties>
</file>